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81E-2F57-40ED-AC48-EE0EC97D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189-1C0E-42CB-9452-4ADBA833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CD4AB-8744-427A-843E-934F7BA3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A59BA-7B98-4155-B766-F1F30E2F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B1EE4-0EFB-49B9-9147-1F94E40A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F7A5E-6CFC-4F49-B72D-7882E967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939C8-3C0F-4F6E-9ED1-C42D1A99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E48C8-117E-4497-9173-718C05DF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5B292-396E-474E-A250-7E4293B0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A8639-81BE-4E20-9BC1-FD2D0687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4D2C8-B5F8-4F1F-AB28-46B2E2E4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1028B-9664-4885-A736-2F271CE6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802B-99EB-4A7E-875D-A0610CA1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40392-E088-43D6-B603-12AF17AC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2499C-1DB7-4EF5-931A-6712A7EF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89B42-8E3B-4920-9D58-E2D75EFC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957FE-42A0-4684-AFE7-F116F386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203EF-52E0-4C02-B901-D14F9CBF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25CBE-6203-4283-86C4-DFBAB102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682FA-D420-438D-BB1C-EB0D93EF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EF9A8-3BE2-41DB-BEAF-29F2C999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0A279-5A22-4429-BF4D-A8E8F80A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DA671-9E4C-4F88-B0C6-3F1ADE5B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03D-C4DC-4989-A2E4-F0866C8F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95AD6-3539-4389-9AA9-197E29B3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28BA8-6305-4493-B279-22AF4807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0DA5E-76AF-413C-A754-8733E250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996B0-CFE1-4BFD-83AB-87F00870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3D53E-8EDF-4A5D-AFF3-F8B22656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50FAD-E9BF-44B6-A247-E55B5DF5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8B9F2-313B-4C6E-B1FE-3487040C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7A541-0E77-44CC-901E-05EF7A79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EE675-265D-444D-853F-80800B92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19827-2136-41DF-931C-BF74E54A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4B17-EBB0-4353-9A39-72D5AD76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DB23B-1DE1-46B4-892D-2294D5C0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C4E58-188D-497E-8E10-DAD56F44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EFD05-922E-4368-992A-531F88E1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20E32-0CF6-4835-9FBA-1DAFCC85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E1E83-7576-4A40-BB5E-0A2B259D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55800-CABB-4402-8489-0D3C0B4E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716C7-FE11-4EC5-9B8A-5A36F6E0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BFB65-7986-4571-A3BD-A89FCDE3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42843-0191-4047-9DEE-BC864596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CBFB2-9FF9-4744-8AFC-772AF6F6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C390-0338-420D-9A9F-C2C777A3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59697-BC7D-484B-A566-53154643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CE501-CD55-4143-BB51-95A58E23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C7EB7-5BDB-4AB4-9B23-D3BC4C6F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9D940-E5AB-4303-8CEE-CF4CC4F3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47A75-F7AA-464A-B58F-9A4D1351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4F2D-9A17-4D39-9582-8D654B84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B539-5287-4E24-B84E-522CB233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1CDB-4C7A-4242-915E-FD1757D2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6ACB-8B4E-4B33-AF47-84F74B45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FCC1-45BA-4C61-9793-39ECD6C3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AB0-C277-4118-B70F-CC373B94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1F77-B200-41C4-92AD-45D6B0A9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757C-A1DB-4B89-844D-E1FEEAF8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F596-70A1-428B-B387-856260DD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D9D8-CDC6-4DDE-BE7C-5B07B05A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DAE7-A889-409E-885D-42C596CB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3881E-124D-49A1-A5AF-2FDB13B3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2E259-3776-48F9-B61D-546C2A98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56CED-46D9-48F1-A0DB-C5B48C4F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D02AC-96E3-4A61-82BC-97EDB1A9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879FB-9203-43AD-A7A6-93F906A3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822-EAF3-483A-8F84-D89B0BDE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11ADF-8EF5-4373-83C3-5AC0D965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64B65-3497-4908-94D3-F6A5E16B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83A65-5123-45A5-B8B4-8CAD7F62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029B4-A999-4EC4-B098-8804E8CA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AB88F-4F87-43E3-A863-1E350057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D17D3-FAA5-4594-96AF-2B236CA2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4C983-DBDA-448E-89FE-1D9A1B03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15EA3-9E2D-454C-AAB4-9BEEF90A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73953-92FB-4112-9138-CD181476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17D3A-8AF8-4985-8130-CF44819C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FE1-36C8-4C14-93DD-5CEADF19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9CE41-5CBF-4F71-8DBB-0CEE1515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41B45-BE6B-4CA5-84C3-243C8172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4B204-F1C8-4E79-9A37-9DF70824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3FDE7-D95D-4F6B-978A-C1BB9D8B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BF56E-7E0B-49C0-8C7B-C2BD9A47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E4364-424D-4157-94D5-E8FAAA14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7FCA1-BA17-48BF-BA25-6B0C7FC8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70996-F7F0-462D-8515-389B1942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AA2A7-BFEB-417C-83BF-0BAB8C9E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79152-6539-4190-881D-B35DBA77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0A4-6035-4FA1-909E-AC64EBBC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FCC99-F6DB-4281-81B8-C1BF6ED5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3D6C4-3289-46E6-A91E-739A0135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9E001-596A-478E-BF52-1A918820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FDB74-7733-4E9C-BED8-5ED8D957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CFCB8-4B08-40FD-ABCD-56242F7F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8A1B8-DB6E-4AB6-8610-670C50C0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69A9E-613F-4875-BB52-D0769C32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F1807-6198-4163-BF88-30E39060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327C1-30D0-4CAD-9C01-CCDDD058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2B551-DCDC-4E51-9B3F-503DF584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A185-B509-4D35-A723-13E22258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2EB79-1AF1-48F4-A648-4BDA7B55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01730-26F9-4C3A-B98D-630CEE94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1BA0F-A4EA-43D0-8FB0-D6C97A7C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525C2-E476-4D27-9D13-EA598DAC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EA62D-23DC-4D0A-92CD-2BA926C8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00810-06AA-45CB-8F63-D46ABBB2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8517C-3149-4B19-87EA-0A7CF8BA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E20CC-9CE2-42B6-BAB1-806385C0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BF81C-9F99-4575-AAC6-A0B43A09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9EC38-0AE6-40D6-9362-721F98E1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12BF-5136-4C44-99F6-1642EFBA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26859-D1D1-4DC4-83A7-9B144299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65E93-C8DA-47A9-A68F-76EFB09B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CD7CA-4EFA-41C7-A963-EB6D29BF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9B488-0270-47ED-A78B-2012EEFC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C9EBA-2852-4AAC-992D-B2438B14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8BAA9-4042-4F99-AC35-622F15C0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965C0-B912-4423-B9AB-10DE6DF8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DCA11-D85E-4FD9-827C-1206CC93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248E6-B021-4535-A877-5F61E3F0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077E4-A2A6-4B58-AE9A-A0874A01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28F-852E-494A-BA78-9F9327B9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AA810-65E6-4413-ACA9-53F4FC15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D8C86-6383-46C7-8636-B6C86145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D55A8-B91D-4403-BA6E-1C4CFA2C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15835-137C-4D3E-8AEA-B54EADED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0F7C3-C0B0-4964-A50A-85BB26EE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E66CA-72D4-49E4-9437-EA7BBF52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BFBE0-5CC0-4551-B442-1A07D8C1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54B58-05B5-4A27-9A51-8B8EFB3B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5D0DE-1FEA-4153-95D5-D1172B13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3F0D0-658F-4661-9BB7-B85A3B1B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CA9D-A883-40D9-8771-A3E5F8F4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13BF0-EC12-49C7-B364-5B45B858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7F41B-4CE0-43E3-AD5F-7676670C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1060F-BB6D-4E2F-B0B7-A249F392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CCD78-E13D-4D5A-A626-D68408D2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E71CA-605E-482D-AB3C-408A8B9A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70B69-B65B-428F-AEED-79960017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D6A8D-69FD-48A6-97C8-85082C53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801FA-6358-46B8-B637-137F32DB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C468F-E932-45D1-BE1E-5E40248E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9F0E2-DBF2-4FFB-9DB7-1D602CE2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1970-BC77-4AC1-957D-F7A925EB49A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FE38-9ACB-46DB-8CC8-5AB0D65CEF7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6D24-C630-4FA5-81B3-A8ECA27B14F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E091-3D31-415D-BD3E-EDDF530DF62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CA29-3937-460C-ACD2-5B1FE9D778A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A576-7E7A-4879-BAAA-FD336FF24F3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6" name="Slika 7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E882-984D-4000-B858-B837AABE243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1F99-1BB3-4756-966D-BE0D0E9E7C3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25F9-C21A-4206-8A57-4C2E514A42C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252B-68AA-4C24-B835-E9EBFDA8B0D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EFFD-857C-408E-A24C-56F978FD39F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0764-2674-4908-9A2D-63667007019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"/>
                <a:ea typeface="Arial"/>
              </a:rPr>
              <a:t>Težište tij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Međudjelovanje i s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77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7375e"/>
                </a:solidFill>
                <a:latin typeface="Arial"/>
                <a:ea typeface="Arial"/>
              </a:rPr>
              <a:t>Ravnoteža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Arial"/>
              </a:rPr>
              <a:t> tije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3"/>
          <p:cNvSpPr/>
          <p:nvPr/>
        </p:nvSpPr>
        <p:spPr>
          <a:xfrm>
            <a:off x="4495680" y="4952880"/>
            <a:ext cx="4419720" cy="1191240"/>
          </a:xfrm>
          <a:prstGeom prst="rect">
            <a:avLst/>
          </a:prstGeom>
          <a:solidFill>
            <a:srgbClr val="dbeef4"/>
          </a:solidFill>
          <a:ln w="936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jelo je to stabilnije što mu 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žište niže, a oslonac već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7" descr="f1"/>
          <p:cNvPicPr/>
          <p:nvPr/>
        </p:nvPicPr>
        <p:blipFill>
          <a:blip r:embed="rId1"/>
          <a:stretch/>
        </p:blipFill>
        <p:spPr>
          <a:xfrm>
            <a:off x="304920" y="1523880"/>
            <a:ext cx="502128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7375e"/>
                </a:solidFill>
                <a:latin typeface="Arial"/>
                <a:ea typeface="Arial"/>
              </a:rPr>
              <a:t>Vrste ravnotež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8" descr=""/>
          <p:cNvPicPr/>
          <p:nvPr/>
        </p:nvPicPr>
        <p:blipFill>
          <a:blip r:embed="rId1"/>
          <a:stretch/>
        </p:blipFill>
        <p:spPr>
          <a:xfrm>
            <a:off x="0" y="1371600"/>
            <a:ext cx="3335400" cy="20574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9" descr=""/>
          <p:cNvPicPr/>
          <p:nvPr/>
        </p:nvPicPr>
        <p:blipFill>
          <a:blip r:embed="rId2"/>
          <a:stretch/>
        </p:blipFill>
        <p:spPr>
          <a:xfrm>
            <a:off x="3124080" y="2590920"/>
            <a:ext cx="2743200" cy="1817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0" descr=""/>
          <p:cNvPicPr/>
          <p:nvPr/>
        </p:nvPicPr>
        <p:blipFill>
          <a:blip r:embed="rId3"/>
          <a:stretch/>
        </p:blipFill>
        <p:spPr>
          <a:xfrm>
            <a:off x="5943600" y="3733920"/>
            <a:ext cx="2789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3"/>
          <p:cNvSpPr/>
          <p:nvPr/>
        </p:nvSpPr>
        <p:spPr>
          <a:xfrm>
            <a:off x="424080" y="1447920"/>
            <a:ext cx="76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pravi lik od kartona koji ima oblik hrvatskog teritor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dredite težiš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3809880" cy="38307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14428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Box 3"/>
          <p:cNvSpPr/>
          <p:nvPr/>
        </p:nvSpPr>
        <p:spPr>
          <a:xfrm>
            <a:off x="254520" y="1676520"/>
            <a:ext cx="51156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težiš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že li težište biti izvan tije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oslonac tijela na podloz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da je tijelo u ravnotež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da se tijelo na podlozi samo ruš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Slika 1" descr=""/>
          <p:cNvPicPr/>
          <p:nvPr/>
        </p:nvPicPr>
        <p:blipFill>
          <a:blip r:embed="rId1"/>
          <a:stretch/>
        </p:blipFill>
        <p:spPr>
          <a:xfrm>
            <a:off x="241200" y="914400"/>
            <a:ext cx="273528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4"/>
          <p:cNvSpPr/>
          <p:nvPr/>
        </p:nvSpPr>
        <p:spPr>
          <a:xfrm>
            <a:off x="380880" y="14479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je lakše održavati ravnotežu u autobusu koji se kreće ako stojimo u laganom raskorak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akrobati u cirkusu mogu izvoditi nevjerojatne for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2863800" cy="3808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7" descr=""/>
          <p:cNvPicPr/>
          <p:nvPr/>
        </p:nvPicPr>
        <p:blipFill>
          <a:blip r:embed="rId2"/>
          <a:stretch/>
        </p:blipFill>
        <p:spPr>
          <a:xfrm>
            <a:off x="4419720" y="3429000"/>
            <a:ext cx="25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4"/>
          <p:cNvSpPr/>
          <p:nvPr/>
        </p:nvSpPr>
        <p:spPr>
          <a:xfrm>
            <a:off x="0" y="1143000"/>
            <a:ext cx="79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dređivanje težišta tij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7"/>
          <p:cNvSpPr/>
          <p:nvPr/>
        </p:nvSpPr>
        <p:spPr>
          <a:xfrm>
            <a:off x="19800" y="1981080"/>
            <a:ext cx="399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dje se nalazi težište ravna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3824280" cy="1228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"/>
          <p:cNvPicPr/>
          <p:nvPr/>
        </p:nvPicPr>
        <p:blipFill>
          <a:blip r:embed="rId2"/>
          <a:stretch/>
        </p:blipFill>
        <p:spPr>
          <a:xfrm>
            <a:off x="4038480" y="4800600"/>
            <a:ext cx="4064040" cy="1219320"/>
          </a:xfrm>
          <a:prstGeom prst="rect">
            <a:avLst/>
          </a:prstGeom>
          <a:ln w="0">
            <a:noFill/>
          </a:ln>
        </p:spPr>
      </p:pic>
      <p:sp>
        <p:nvSpPr>
          <p:cNvPr id="513" name="TextBox 7"/>
          <p:cNvSpPr/>
          <p:nvPr/>
        </p:nvSpPr>
        <p:spPr>
          <a:xfrm>
            <a:off x="4062600" y="4343400"/>
            <a:ext cx="479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že li se položaj težišta promijenit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Slika 7" descr=""/>
          <p:cNvPicPr/>
          <p:nvPr/>
        </p:nvPicPr>
        <p:blipFill>
          <a:blip r:embed="rId3"/>
          <a:stretch/>
        </p:blipFill>
        <p:spPr>
          <a:xfrm>
            <a:off x="380880" y="766800"/>
            <a:ext cx="135756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7375e"/>
                </a:solidFill>
                <a:latin typeface="Arial"/>
                <a:ea typeface="Arial"/>
              </a:rPr>
              <a:t>Težište</a:t>
            </a:r>
            <a:r>
              <a:rPr b="0" lang="hr-HR" sz="40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3"/>
          <p:cNvSpPr/>
          <p:nvPr/>
        </p:nvSpPr>
        <p:spPr>
          <a:xfrm>
            <a:off x="540360" y="1219320"/>
            <a:ext cx="700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7375e"/>
                </a:solidFill>
                <a:latin typeface="Arial"/>
                <a:ea typeface="Arial"/>
              </a:rPr>
              <a:t>Težište tij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17375e"/>
                </a:solidFill>
                <a:latin typeface="Arial"/>
                <a:ea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 točka u kojoj tijelo miruje ako je u njoj podup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očka u kojoj je hvatište sile tež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znaka za težišt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4"/>
          <p:cNvSpPr/>
          <p:nvPr/>
        </p:nvSpPr>
        <p:spPr>
          <a:xfrm>
            <a:off x="1684800" y="5562720"/>
            <a:ext cx="56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žište pravilni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jela jednolike gustoć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289584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Box 4"/>
          <p:cNvSpPr/>
          <p:nvPr/>
        </p:nvSpPr>
        <p:spPr>
          <a:xfrm>
            <a:off x="0" y="1371600"/>
            <a:ext cx="79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dređivanje težišta nepravilnog tij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3657600" cy="250020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1"/>
          <p:cNvSpPr/>
          <p:nvPr/>
        </p:nvSpPr>
        <p:spPr>
          <a:xfrm>
            <a:off x="4424400" y="3276720"/>
            <a:ext cx="457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Crtanje težiš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žišnice se sijeku u težištu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Slika 5" descr=""/>
          <p:cNvPicPr/>
          <p:nvPr/>
        </p:nvPicPr>
        <p:blipFill>
          <a:blip r:embed="rId2"/>
          <a:stretch/>
        </p:blipFill>
        <p:spPr>
          <a:xfrm>
            <a:off x="228600" y="871560"/>
            <a:ext cx="13572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4"/>
          <p:cNvSpPr/>
          <p:nvPr/>
        </p:nvSpPr>
        <p:spPr>
          <a:xfrm>
            <a:off x="685800" y="1143000"/>
            <a:ext cx="79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jesto težišta mijenja se u ovisnosti o položaju tij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7334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3"/>
          <p:cNvSpPr/>
          <p:nvPr/>
        </p:nvSpPr>
        <p:spPr>
          <a:xfrm>
            <a:off x="1405080" y="1143000"/>
            <a:ext cx="58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 neka se tijela težište nalazi izvan tijel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1523880" y="1752480"/>
            <a:ext cx="5500800" cy="3127320"/>
            <a:chOff x="1523880" y="1752480"/>
            <a:chExt cx="5500800" cy="3127320"/>
          </a:xfrm>
        </p:grpSpPr>
        <p:pic>
          <p:nvPicPr>
            <p:cNvPr id="527" name="Picture 2" descr=""/>
            <p:cNvPicPr/>
            <p:nvPr/>
          </p:nvPicPr>
          <p:blipFill>
            <a:blip r:embed="rId1"/>
            <a:stretch/>
          </p:blipFill>
          <p:spPr>
            <a:xfrm>
              <a:off x="1523880" y="1752480"/>
              <a:ext cx="5500800" cy="264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Box 3"/>
            <p:cNvSpPr/>
            <p:nvPr/>
          </p:nvSpPr>
          <p:spPr>
            <a:xfrm>
              <a:off x="2215800" y="442008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ste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4"/>
            <p:cNvSpPr/>
            <p:nvPr/>
          </p:nvSpPr>
          <p:spPr>
            <a:xfrm>
              <a:off x="5342040" y="442008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tko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80604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7375e"/>
                </a:solidFill>
                <a:latin typeface="Arial"/>
                <a:ea typeface="Arial"/>
              </a:rPr>
              <a:t>Oslonac tijela</a:t>
            </a:r>
            <a:r>
              <a:rPr b="0" lang="hr-HR" sz="29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3"/>
          <p:cNvSpPr/>
          <p:nvPr/>
        </p:nvSpPr>
        <p:spPr>
          <a:xfrm>
            <a:off x="457200" y="1752480"/>
            <a:ext cx="521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Čovjeku koji stoji oslonac je površ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loge ispod i između stopa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4"/>
          <p:cNvSpPr/>
          <p:nvPr/>
        </p:nvSpPr>
        <p:spPr>
          <a:xfrm>
            <a:off x="486000" y="3809880"/>
            <a:ext cx="52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ko čovjek stoji razmaknutih stopa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lonac je već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5943600" y="1295280"/>
            <a:ext cx="1676520" cy="19512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2209680" cy="1568160"/>
          </a:xfrm>
          <a:prstGeom prst="rect">
            <a:avLst/>
          </a:prstGeom>
          <a:ln w="0">
            <a:noFill/>
          </a:ln>
        </p:spPr>
      </p:pic>
      <p:sp>
        <p:nvSpPr>
          <p:cNvPr id="535" name="TextBox 4"/>
          <p:cNvSpPr/>
          <p:nvPr/>
        </p:nvSpPr>
        <p:spPr>
          <a:xfrm>
            <a:off x="914400" y="5791320"/>
            <a:ext cx="6934320" cy="520560"/>
          </a:xfrm>
          <a:prstGeom prst="rect">
            <a:avLst/>
          </a:prstGeom>
          <a:solidFill>
            <a:srgbClr val="dbeef4"/>
          </a:solidFill>
          <a:ln w="936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Tijelo je stabilnije što je površina oslonca već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644040"/>
            <a:ext cx="8229600" cy="4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17375e"/>
                </a:solidFill>
                <a:latin typeface="Arial"/>
                <a:ea typeface="Arial"/>
              </a:rPr>
              <a:t>Ravnoteža</a:t>
            </a:r>
            <a:r>
              <a:rPr b="0" lang="en-US" sz="2900" spc="-1" strike="noStrike">
                <a:solidFill>
                  <a:srgbClr val="17375e"/>
                </a:solidFill>
                <a:latin typeface="Arial"/>
                <a:ea typeface="Arial"/>
              </a:rPr>
              <a:t> tijela</a:t>
            </a:r>
            <a:r>
              <a:rPr b="0" lang="hr-HR" sz="29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3"/>
          <p:cNvSpPr/>
          <p:nvPr/>
        </p:nvSpPr>
        <p:spPr>
          <a:xfrm>
            <a:off x="4114800" y="1295280"/>
            <a:ext cx="4343400" cy="1191240"/>
          </a:xfrm>
          <a:prstGeom prst="rect">
            <a:avLst/>
          </a:prstGeom>
          <a:solidFill>
            <a:srgbClr val="dbeef4"/>
          </a:solidFill>
          <a:ln w="936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jelo je u ravnoteži kad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koj podlozi miru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7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353040" cy="50162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čekić-gif"/>
          <p:cNvPicPr/>
          <p:nvPr/>
        </p:nvPicPr>
        <p:blipFill>
          <a:blip r:embed="rId2"/>
          <a:stretch/>
        </p:blipFill>
        <p:spPr>
          <a:xfrm>
            <a:off x="4191120" y="268596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0:26Z</dcterms:created>
  <dc:creator>Slavko</dc:creator>
  <dc:description/>
  <dc:language>en-US</dc:language>
  <cp:lastModifiedBy>Tomislav Dumančić</cp:lastModifiedBy>
  <dcterms:modified xsi:type="dcterms:W3CDTF">2019-09-17T08:55:34Z</dcterms:modified>
  <cp:revision>58</cp:revision>
  <dc:subject/>
  <dc:title>Slide 1</dc:title>
</cp:coreProperties>
</file>